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FF1FCA-1A70-47E1-ADDF-EB3682E2E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C6F160-703A-4C81-903F-9A499DCA2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30120" y="542880"/>
            <a:ext cx="6351840" cy="4764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51000" y="5553000"/>
            <a:ext cx="630864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316FE-79CE-4E5A-8643-87146C30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394DD-F91B-40AE-A544-43D5E31E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A4ACD-3555-4F57-B56E-FE266620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586A1-8E0C-40FD-94A3-7B410672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C7921-A40B-4F6D-BFB4-9C779CE49B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4EF90-159D-424C-A0B7-8EA0CDDCA7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EA51C-40A7-4C61-ADD7-ACB8AC6DCB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9E15A-20B8-48A0-AF0F-715A2F4BCA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7DAC8-5513-48FC-9EAA-0DF9297189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08070-3C17-4530-AF4B-B46E3D9634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7E314-E596-43D5-9518-C73EC2529D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F3486-BD4C-4395-AC46-3A5D573D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981C7-309C-47D8-B194-69C84E31BA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3FDD0-E092-4DA8-9B3C-78BE12F004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D5494-D33B-415E-8E16-C13D76AB6E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95113-4BD0-4DC0-90E0-4E4C5BDA0A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02DDD-4598-46A1-944F-38EBB1CA01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F0956-00D7-4B31-B24D-58820EDD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056FE-3546-4124-817B-F3B3EF3A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04FA2-DB2D-4DD6-8AF1-555F44B5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3E5F0-5ECD-4AC3-9C7F-555CE31F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EE5A2-10A7-4EC7-B951-6392BB6F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A8E47-76FB-44A2-B23A-47594D24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ED42A-08E3-46E3-9FA6-6E5045E4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75E2C-134E-4D9C-959C-785B1C4C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CF46A-89A2-4FF5-A985-1C1D8DCD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FA2BD-B2D4-4207-B885-C919B41B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7E625-D47C-491D-A457-B45A9A25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D263F-57B1-45FB-B784-4F9979FE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2F1A5-57B4-4D29-8DDD-57ED96F9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074B2-2DBB-433D-B7A7-AA67C0A1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8E709-3383-4082-B7D2-25CB70E2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0565D-9DCD-4A12-83F2-A04F765C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669A-2A6E-476D-97AE-FEB0C201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7EE94-3AED-47E0-968A-12371EFE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B9EE7-CE1A-48C1-8181-6DB4353D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BCDC-2189-483B-B09E-3CE52AE5B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40" y="7920"/>
            <a:ext cx="9140760" cy="6850080"/>
            <a:chOff x="3240" y="792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6440" y="3548160"/>
              <a:ext cx="6392880" cy="3309840"/>
              <a:chOff x="2746440" y="354816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6440" y="420516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3280" y="424800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6920" y="531972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5720" y="354816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8520" y="368604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6880" y="213660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" y="792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4"/>
          </p:nvPr>
        </p:nvSpPr>
        <p:spPr>
          <a:xfrm>
            <a:off x="3045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C6DC-829B-4595-96C6-5C17FD620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F9C9-F75A-4171-9B9A-0CDE02B55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Learning and Achievement </a:t>
            </a:r>
            <a:br>
              <a:rPr sz="5400"/>
            </a:br>
            <a:endParaRPr b="1" lang="en-US" sz="5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Garamond"/>
              </a:rPr>
              <a:t>School Libraries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3623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cross the </a:t>
            </a: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urriculum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339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For All Students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786BA-38D5-4FA7-9BEC-7752A7F6081D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505320" y="762120"/>
            <a:ext cx="2409480" cy="2632680"/>
            <a:chOff x="3505320" y="762120"/>
            <a:chExt cx="2409480" cy="2632680"/>
          </a:xfrm>
        </p:grpSpPr>
        <p:sp>
          <p:nvSpPr>
            <p:cNvPr id="152" name=""/>
            <p:cNvSpPr/>
            <p:nvPr/>
          </p:nvSpPr>
          <p:spPr>
            <a:xfrm flipV="1">
              <a:off x="4699080" y="1335960"/>
              <a:ext cx="0" cy="20588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505320" y="762120"/>
              <a:ext cx="2409480" cy="1250280"/>
              <a:chOff x="3505320" y="762120"/>
              <a:chExt cx="2409480" cy="1250280"/>
            </a:xfrm>
          </p:grpSpPr>
          <p:sp>
            <p:nvSpPr>
              <p:cNvPr id="154" name=""/>
              <p:cNvSpPr/>
              <p:nvPr/>
            </p:nvSpPr>
            <p:spPr>
              <a:xfrm>
                <a:off x="3505320" y="76212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34920" y="84240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5000760" y="2057400"/>
            <a:ext cx="4142880" cy="1250640"/>
            <a:chOff x="5000760" y="2057400"/>
            <a:chExt cx="4142880" cy="1250640"/>
          </a:xfrm>
        </p:grpSpPr>
        <p:sp>
          <p:nvSpPr>
            <p:cNvPr id="157" name=""/>
            <p:cNvSpPr/>
            <p:nvPr/>
          </p:nvSpPr>
          <p:spPr>
            <a:xfrm flipV="1">
              <a:off x="5000760" y="267804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734160" y="2057400"/>
              <a:ext cx="2409480" cy="1250640"/>
              <a:chOff x="6734160" y="2057400"/>
              <a:chExt cx="2409480" cy="1250640"/>
            </a:xfrm>
          </p:grpSpPr>
          <p:sp>
            <p:nvSpPr>
              <p:cNvPr id="159" name=""/>
              <p:cNvSpPr/>
              <p:nvPr/>
            </p:nvSpPr>
            <p:spPr>
              <a:xfrm>
                <a:off x="6734160" y="205740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63760" y="213804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378040" y="3122640"/>
            <a:ext cx="2670120" cy="2493360"/>
            <a:chOff x="5378040" y="3122640"/>
            <a:chExt cx="2670120" cy="2493360"/>
          </a:xfrm>
        </p:grpSpPr>
        <p:sp>
          <p:nvSpPr>
            <p:cNvPr id="162" name=""/>
            <p:cNvSpPr/>
            <p:nvPr/>
          </p:nvSpPr>
          <p:spPr>
            <a:xfrm>
              <a:off x="5378040" y="3122640"/>
              <a:ext cx="1391040" cy="19029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638680" y="4365360"/>
              <a:ext cx="2409480" cy="1250640"/>
              <a:chOff x="5638680" y="4365360"/>
              <a:chExt cx="2409480" cy="1250640"/>
            </a:xfrm>
          </p:grpSpPr>
          <p:sp>
            <p:nvSpPr>
              <p:cNvPr id="164" name=""/>
              <p:cNvSpPr/>
              <p:nvPr/>
            </p:nvSpPr>
            <p:spPr>
              <a:xfrm>
                <a:off x="5638680" y="436536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68280" y="444600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371600" y="3199320"/>
            <a:ext cx="2631960" cy="2493000"/>
            <a:chOff x="1371600" y="3199320"/>
            <a:chExt cx="2631960" cy="2493000"/>
          </a:xfrm>
        </p:grpSpPr>
        <p:sp>
          <p:nvSpPr>
            <p:cNvPr id="167" name=""/>
            <p:cNvSpPr/>
            <p:nvPr/>
          </p:nvSpPr>
          <p:spPr>
            <a:xfrm flipH="1">
              <a:off x="2611800" y="3199320"/>
              <a:ext cx="1391760" cy="19022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371600" y="4441680"/>
              <a:ext cx="2409480" cy="1250640"/>
              <a:chOff x="1371600" y="4441680"/>
              <a:chExt cx="2409480" cy="1250640"/>
            </a:xfrm>
          </p:grpSpPr>
          <p:sp>
            <p:nvSpPr>
              <p:cNvPr id="169" name=""/>
              <p:cNvSpPr/>
              <p:nvPr/>
            </p:nvSpPr>
            <p:spPr>
              <a:xfrm>
                <a:off x="1371600" y="4441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01200" y="4522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28600" y="2209680"/>
            <a:ext cx="4215960" cy="1250640"/>
            <a:chOff x="228600" y="2209680"/>
            <a:chExt cx="4215960" cy="1250640"/>
          </a:xfrm>
        </p:grpSpPr>
        <p:sp>
          <p:nvSpPr>
            <p:cNvPr id="172" name=""/>
            <p:cNvSpPr/>
            <p:nvPr/>
          </p:nvSpPr>
          <p:spPr>
            <a:xfrm flipH="1" flipV="1">
              <a:off x="1549080" y="283032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28600" y="2209680"/>
              <a:ext cx="2409480" cy="1250640"/>
              <a:chOff x="228600" y="2209680"/>
              <a:chExt cx="2409480" cy="1250640"/>
            </a:xfrm>
          </p:grpSpPr>
          <p:sp>
            <p:nvSpPr>
              <p:cNvPr id="174" name=""/>
              <p:cNvSpPr/>
              <p:nvPr/>
            </p:nvSpPr>
            <p:spPr>
              <a:xfrm>
                <a:off x="228600" y="2209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8200" y="2290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743200" y="2209680"/>
            <a:ext cx="3656880" cy="1904400"/>
            <a:chOff x="2743200" y="2209680"/>
            <a:chExt cx="3656880" cy="1904400"/>
          </a:xfrm>
        </p:grpSpPr>
        <p:sp>
          <p:nvSpPr>
            <p:cNvPr id="177" name=""/>
            <p:cNvSpPr/>
            <p:nvPr/>
          </p:nvSpPr>
          <p:spPr>
            <a:xfrm>
              <a:off x="2743200" y="2209680"/>
              <a:ext cx="3656880" cy="1904400"/>
            </a:xfrm>
            <a:prstGeom prst="ellipse">
              <a:avLst/>
            </a:prstGeom>
            <a:gradFill rotWithShape="0">
              <a:gsLst>
                <a:gs pos="0">
                  <a:srgbClr val="bfbfa7"/>
                </a:gs>
                <a:gs pos="100000">
                  <a:srgbClr val="393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39760" y="2332440"/>
              <a:ext cx="3252600" cy="1650960"/>
            </a:xfrm>
            <a:prstGeom prst="ellipse">
              <a:avLst/>
            </a:prstGeom>
            <a:gradFill rotWithShape="0">
              <a:gsLst>
                <a:gs pos="0">
                  <a:srgbClr val="393932"/>
                </a:gs>
                <a:gs pos="100000">
                  <a:srgbClr val="bfbf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Information Literacy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Teaching and Learning</a:t>
              </a:r>
              <a:endParaRPr b="0" lang="en-US" sz="20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00160" y="166680"/>
            <a:ext cx="83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Systemic School Library Improvement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172200"/>
            <a:ext cx="23619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Garamond"/>
              </a:rPr>
              <a:t>Based on National Science Resource Center Reform Model </a:t>
            </a:r>
            <a:r>
              <a:rPr b="0" lang="en-US" sz="1400" spc="-1" strike="noStrike">
                <a:solidFill>
                  <a:srgbClr val="4b2500"/>
                </a:solidFill>
                <a:latin typeface="Garamond"/>
              </a:rPr>
              <a:t>© NSRC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5BD8-1EAE-48C2-A870-B3969D6CACEC}" type="slidenum">
              <a:t>2</a:t>
            </a:fld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Student Access to Information Specialists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School Library Media Center in every school</a:t>
            </a:r>
            <a:br>
              <a:rPr sz="3200"/>
            </a:b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School Library Media Specialist in every Library Media Center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77040" y="-57960"/>
            <a:ext cx="4245480" cy="1785240"/>
            <a:chOff x="-77040" y="-57960"/>
            <a:chExt cx="4245480" cy="1785240"/>
          </a:xfrm>
        </p:grpSpPr>
        <p:sp>
          <p:nvSpPr>
            <p:cNvPr id="184" name=""/>
            <p:cNvSpPr/>
            <p:nvPr/>
          </p:nvSpPr>
          <p:spPr>
            <a:xfrm flipH="1">
              <a:off x="1310760" y="515520"/>
              <a:ext cx="2857680" cy="25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-77040" y="-57960"/>
              <a:ext cx="2572560" cy="1785240"/>
              <a:chOff x="-77040" y="-57960"/>
              <a:chExt cx="2572560" cy="1785240"/>
            </a:xfrm>
          </p:grpSpPr>
          <p:sp>
            <p:nvSpPr>
              <p:cNvPr id="186" name=""/>
              <p:cNvSpPr/>
              <p:nvPr/>
            </p:nvSpPr>
            <p:spPr>
              <a:xfrm rot="20564400">
                <a:off x="39600" y="263160"/>
                <a:ext cx="233892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20564400">
                <a:off x="164880" y="337680"/>
                <a:ext cx="208008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6E560-4175-427F-9E75-D2468C7CC6D0}" type="slidenum">
              <a:t>3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dvocacy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4b2500"/>
                </a:solidFill>
                <a:latin typeface="Garamond"/>
              </a:rPr>
              <a:t>Winning compliance </a:t>
            </a:r>
            <a:br>
              <a:rPr sz="4000"/>
            </a:br>
            <a:r>
              <a:rPr b="0" lang="en-US" sz="4000" spc="-1" strike="noStrike">
                <a:solidFill>
                  <a:srgbClr val="4b2500"/>
                </a:solidFill>
                <a:latin typeface="Garamond"/>
              </a:rPr>
              <a:t>in meeting Regulations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7960" y="315360"/>
            <a:ext cx="4198680" cy="2003040"/>
            <a:chOff x="327960" y="315360"/>
            <a:chExt cx="4198680" cy="2003040"/>
          </a:xfrm>
        </p:grpSpPr>
        <p:sp>
          <p:nvSpPr>
            <p:cNvPr id="191" name=""/>
            <p:cNvSpPr/>
            <p:nvPr/>
          </p:nvSpPr>
          <p:spPr>
            <a:xfrm flipH="1">
              <a:off x="1721520" y="639360"/>
              <a:ext cx="2805120" cy="603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27960" y="315360"/>
              <a:ext cx="2601720" cy="2003040"/>
              <a:chOff x="327960" y="315360"/>
              <a:chExt cx="2601720" cy="2003040"/>
            </a:xfrm>
          </p:grpSpPr>
          <p:sp>
            <p:nvSpPr>
              <p:cNvPr id="193" name=""/>
              <p:cNvSpPr/>
              <p:nvPr/>
            </p:nvSpPr>
            <p:spPr>
              <a:xfrm rot="20143800">
                <a:off x="459360" y="745560"/>
                <a:ext cx="233892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20143800">
                <a:off x="584280" y="820800"/>
                <a:ext cx="208008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D08E3-ADC3-4C92-B2D1-01A8A78CB905}" type="slidenum">
              <a:t>4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Winning 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Administrative Support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-55440"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27960" y="315360"/>
            <a:ext cx="4198680" cy="2003040"/>
            <a:chOff x="327960" y="315360"/>
            <a:chExt cx="4198680" cy="2003040"/>
          </a:xfrm>
        </p:grpSpPr>
        <p:sp>
          <p:nvSpPr>
            <p:cNvPr id="198" name=""/>
            <p:cNvSpPr/>
            <p:nvPr/>
          </p:nvSpPr>
          <p:spPr>
            <a:xfrm flipH="1">
              <a:off x="1721520" y="639360"/>
              <a:ext cx="2805120" cy="603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327960" y="315360"/>
              <a:ext cx="2601720" cy="2003040"/>
              <a:chOff x="327960" y="315360"/>
              <a:chExt cx="2601720" cy="2003040"/>
            </a:xfrm>
          </p:grpSpPr>
          <p:sp>
            <p:nvSpPr>
              <p:cNvPr id="200" name=""/>
              <p:cNvSpPr/>
              <p:nvPr/>
            </p:nvSpPr>
            <p:spPr>
              <a:xfrm rot="20143800">
                <a:off x="459360" y="745560"/>
                <a:ext cx="233892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20143800">
                <a:off x="584280" y="820800"/>
                <a:ext cx="208008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FD7F8-4F17-4542-B45D-401B5497D962}" type="slidenum">
              <a:t>5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37:35Z</dcterms:created>
  <dc:creator> </dc:creator>
  <dc:description/>
  <dc:language>en-US</dc:language>
  <cp:lastModifiedBy> </cp:lastModifiedBy>
  <dcterms:modified xsi:type="dcterms:W3CDTF">2009-05-08T16:14:03Z</dcterms:modified>
  <cp:revision>110</cp:revision>
  <dc:subject/>
  <dc:title>Work Group Question here</dc:title>
</cp:coreProperties>
</file>